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6A415-6244-434F-9721-87F933775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2B419-33F2-4A24-BC4E-900753A19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4EE2E-B0AB-45EB-8247-3CE853B98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A4DC8-3572-4BA3-9DF1-972844B76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E3040-1640-49C1-AF0E-242058003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2DC52-2D7A-4FEA-834C-1D277C8BA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6549D-9B5A-4003-8D4C-E8D6BD78E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62798-A8A3-4623-AC2B-BF84CDCB0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30DAB-EB93-40AA-B35C-C741FCC39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07953-C1AA-49D2-9F04-4C28AD324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D0FBF-5775-4D01-A254-A759ADE2B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0BCDD-A7F5-46DD-BB0C-CC4F434B8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55AA-560F-4EEE-B582-CCFE33C046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tatutes.legis.state.tx.us/Docs/EL/htm/EL.162.htm"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statutes.legis.state.tx.us/Docs/EL/htm/EL.163.htm"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statutes.legis.state.tx.us/Docs/EL/htm/EL.171.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tatutes.legis.state.tx.us/"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statutes.legis.state.tx.us/Docs/EL/htm/EL.172.htm"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atutes.legis.state.tx.us/Docs/EL/htm/EL.161.htm#161.001"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statutes.legis.state.tx.us/Docs/EL/htm/EL.173.htm"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statutes.legis.state.tx.us/Docs/EL/htm/EL.174.htm" TargetMode="Externa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statutes.legis.state.tx.us/Docs/EL/htm/EL.181.htm" TargetMode="Externa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statutes.legis.state.tx.us/Docs/EL/htm/EL.182.htm"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Statutory Code on Political Parti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161.008. CERTIFICATION OF NOMINEES FOR STATEWIDE AND DISTRICT OFFICES FOR PLACEMENT ON GENERAL ELECTION BALLOT. </a:t>
            </a:r>
            <a:br>
              <a:rPr sz="2800"/>
            </a:br>
            <a:br>
              <a:rPr sz="2800"/>
            </a:br>
            <a:r>
              <a:rPr b="0" lang="en-US" sz="2800" spc="-1" strike="noStrike">
                <a:solidFill>
                  <a:srgbClr val="000000"/>
                </a:solidFill>
                <a:latin typeface="Calibri"/>
              </a:rPr>
              <a:t>(a) Except as provided by Subsection (c), the secretary of state shall certify in writing for placement on the general election ballot the name of each candidate nominated at a primary election or convention of a political party for a statewide or district offi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1.009. PARTY OFFICER SUBJECT TO MANDAMUS. </a:t>
            </a:r>
            <a:br>
              <a:rPr sz="4400"/>
            </a:br>
            <a:br>
              <a:rPr sz="4400"/>
            </a:br>
            <a:r>
              <a:rPr b="0" lang="en-US" sz="4400" spc="-1" strike="noStrike">
                <a:solidFill>
                  <a:srgbClr val="000000"/>
                </a:solidFill>
                <a:latin typeface="Calibri"/>
              </a:rPr>
              <a:t>The performance of a duty placed by this code on an officer of a political party is enforceable by writ of mandamus in the same manner as if the party officer were a public offic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1.010. CHALLENGING CONVENTION DELEGATES. </a:t>
            </a:r>
            <a:br>
              <a:rPr sz="4400"/>
            </a:br>
            <a:br>
              <a:rPr sz="4400"/>
            </a:br>
            <a:r>
              <a:rPr b="0" lang="en-US" sz="4400" spc="-1" strike="noStrike">
                <a:solidFill>
                  <a:srgbClr val="000000"/>
                </a:solidFill>
                <a:latin typeface="Calibri"/>
              </a:rPr>
              <a:t>A political party holding a convention under this title may provide by rule for challenging the qualifications of the convention delegates and for replacing unqualified deleg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ting Participation in Party Affairs</a:t>
            </a:r>
            <a:br>
              <a:rPr sz="4400"/>
            </a:br>
            <a:br>
              <a:rPr sz="4400"/>
            </a:br>
            <a:r>
              <a:rPr b="0" lang="en-US" sz="4400" spc="-1" strike="noStrike" u="sng">
                <a:solidFill>
                  <a:srgbClr val="0000ff"/>
                </a:solidFill>
                <a:uFillTx/>
                <a:latin typeface="Calibri"/>
                <a:hlinkClick r:id="rId1"/>
              </a:rPr>
              <a:t>Chapter 162</a:t>
            </a:r>
            <a:br>
              <a:rPr sz="4400"/>
            </a:br>
            <a:br>
              <a:rPr sz="4400"/>
            </a:br>
            <a:r>
              <a:rPr b="0" lang="en-US" sz="4400" spc="-1" strike="noStrike">
                <a:solidFill>
                  <a:srgbClr val="000000"/>
                </a:solidFill>
                <a:latin typeface="Calibri"/>
              </a:rPr>
              <a:t>Some S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 162.001. AFFILIATION WITH PARTY REQUIRED. </a:t>
            </a:r>
            <a:br>
              <a:rPr sz="2000"/>
            </a:br>
            <a:br>
              <a:rPr sz="2000"/>
            </a:br>
            <a:r>
              <a:rPr b="0" lang="en-US" sz="2000" spc="-1" strike="noStrike">
                <a:solidFill>
                  <a:srgbClr val="000000"/>
                </a:solidFill>
                <a:latin typeface="Calibri"/>
              </a:rPr>
              <a:t>(a) A person must be affiliated with a political party to be eligible to:</a:t>
            </a:r>
            <a:br>
              <a:rPr sz="2000"/>
            </a:br>
            <a:r>
              <a:rPr b="0" lang="en-US" sz="2000" spc="-1" strike="noStrike">
                <a:solidFill>
                  <a:srgbClr val="000000"/>
                </a:solidFill>
                <a:latin typeface="Calibri"/>
              </a:rPr>
              <a:t>(1) serve as a delegate to or otherwise participate in a convention held by the party under this code;</a:t>
            </a:r>
            <a:br>
              <a:rPr sz="2000"/>
            </a:br>
            <a:r>
              <a:rPr b="0" lang="en-US" sz="2000" spc="-1" strike="noStrike">
                <a:solidFill>
                  <a:srgbClr val="000000"/>
                </a:solidFill>
                <a:latin typeface="Calibri"/>
              </a:rPr>
              <a:t>(2) be elected as a member of or be appointed to fill a vacancy on a state executive committee; or</a:t>
            </a:r>
            <a:br>
              <a:rPr sz="2000"/>
            </a:br>
            <a:r>
              <a:rPr b="0" lang="en-US" sz="2000" spc="-1" strike="noStrike">
                <a:solidFill>
                  <a:srgbClr val="000000"/>
                </a:solidFill>
                <a:latin typeface="Calibri"/>
              </a:rPr>
              <a:t>(3) be appointed to fill a vacancy on a county executive committee.</a:t>
            </a:r>
            <a:br>
              <a:rPr sz="2000"/>
            </a:br>
            <a:r>
              <a:rPr b="0" lang="en-US" sz="2000" spc="-1" strike="noStrike">
                <a:solidFill>
                  <a:srgbClr val="000000"/>
                </a:solidFill>
                <a:latin typeface="Calibri"/>
              </a:rPr>
              <a:t>(b) The affiliation requirement prescribed by Subsections (a)(2) and (3) applies only during a voting year in which the general election for state and county officers is held and does not apply until:</a:t>
            </a:r>
            <a:br>
              <a:rPr sz="2000"/>
            </a:br>
            <a:r>
              <a:rPr b="0" lang="en-US" sz="2000" spc="-1" strike="noStrike">
                <a:solidFill>
                  <a:srgbClr val="000000"/>
                </a:solidFill>
                <a:latin typeface="Calibri"/>
              </a:rPr>
              <a:t>(1) general primary election day, for a party holding a primary election; or</a:t>
            </a:r>
            <a:br>
              <a:rPr sz="2000"/>
            </a:br>
            <a:r>
              <a:rPr b="0" lang="en-US" sz="2000" spc="-1" strike="noStrike">
                <a:solidFill>
                  <a:srgbClr val="000000"/>
                </a:solidFill>
                <a:latin typeface="Calibri"/>
              </a:rPr>
              <a:t>(2) the date of the precinct conventions held under this title, for a party nominating by conven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2.002. ELIGIBILITY TO AFFILIATE. </a:t>
            </a:r>
            <a:br>
              <a:rPr sz="4400"/>
            </a:br>
            <a:br>
              <a:rPr sz="4400"/>
            </a:br>
            <a:r>
              <a:rPr b="0" lang="en-US" sz="4400" spc="-1" strike="noStrike">
                <a:solidFill>
                  <a:srgbClr val="000000"/>
                </a:solidFill>
                <a:latin typeface="Calibri"/>
              </a:rPr>
              <a:t>To be eligible to affiliate with a political party, a person must be:</a:t>
            </a:r>
            <a:br>
              <a:rPr sz="4400"/>
            </a:br>
            <a:r>
              <a:rPr b="0" lang="en-US" sz="4400" spc="-1" strike="noStrike">
                <a:solidFill>
                  <a:srgbClr val="000000"/>
                </a:solidFill>
                <a:latin typeface="Calibri"/>
              </a:rPr>
              <a:t>(1) a registered voter; or</a:t>
            </a:r>
            <a:br>
              <a:rPr sz="4400"/>
            </a:br>
            <a:r>
              <a:rPr b="0" lang="en-US" sz="4400" spc="-1" strike="noStrike">
                <a:solidFill>
                  <a:srgbClr val="000000"/>
                </a:solidFill>
                <a:latin typeface="Calibri"/>
              </a:rPr>
              <a:t>(2) eligible to vote a limited ballot at the time of affilia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2.003. AFFILIATION BY VOTING IN PRIMARY. A person becomes affiliated with a political party when the person:</a:t>
            </a:r>
            <a:br>
              <a:rPr sz="4400"/>
            </a:br>
            <a:r>
              <a:rPr b="0" lang="en-US" sz="4400" spc="-1" strike="noStrike">
                <a:solidFill>
                  <a:srgbClr val="000000"/>
                </a:solidFill>
                <a:latin typeface="Calibri"/>
              </a:rPr>
              <a:t>(1) is accepted to vote in the party's primary election; or</a:t>
            </a:r>
            <a:br>
              <a:rPr sz="4400"/>
            </a:br>
            <a:r>
              <a:rPr b="0" lang="en-US" sz="4400" spc="-1" strike="noStrike">
                <a:solidFill>
                  <a:srgbClr val="000000"/>
                </a:solidFill>
                <a:latin typeface="Calibri"/>
              </a:rPr>
              <a:t>(2) applies for and is provided an early voting or limited primary ballot to be voted by m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162.004. AFFILIATION PROCEDURE: VOTING AT POLLING PLACE. (a) The signature roster for a primary election must state at the top of each page: "A person commits a criminal offense if the person knowingly votes in a primary election or participates in a convention of a party after having voted in a primary election or participated in a convention of another party during the same voting 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 162.007. AFFILIATION PROCEDURE: TAKING OATH AT PRECINCT CONVENTION. (a) This section applies only to a precinct convention held under this title by a political party making nominations by convention.</a:t>
            </a:r>
            <a:br>
              <a:rPr sz="2400"/>
            </a:br>
            <a:r>
              <a:rPr b="0" lang="en-US" sz="2400" spc="-1" strike="noStrike">
                <a:solidFill>
                  <a:srgbClr val="000000"/>
                </a:solidFill>
                <a:latin typeface="Calibri"/>
              </a:rPr>
              <a:t>(b) On admitting a person for participation in the convention, the temporary chair shall administer to the person the following oath: "I swear that I have not voted in a primary election or participated in a convention of another party during this voting year. I hereby affiliate myself with the __________ Party."</a:t>
            </a:r>
            <a:br>
              <a:rPr sz="2400"/>
            </a:br>
            <a:r>
              <a:rPr b="0" lang="en-US" sz="2400" spc="-1" strike="noStrike">
                <a:solidFill>
                  <a:srgbClr val="000000"/>
                </a:solidFill>
                <a:latin typeface="Calibri"/>
              </a:rPr>
              <a:t>(c) After administering the oath, the temporary chair shall request the person's registration certificate and stamp the party's name in the party affiliation space unless the party name has already been stamped in the space. If the person does not present a registration certificate, the temporary chair on the person's request shall issue the person an affiliation certifica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2.010. DURATION OF AFFILIATION. A party affiliation expires at the end of the voting year in which the person became affili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brief section we’ll scroll through the major laws related to political parties as detailed in the Election Code.</a:t>
            </a:r>
            <a:br>
              <a:rPr sz="4400"/>
            </a:br>
            <a:br>
              <a:rPr sz="4400"/>
            </a:br>
            <a:r>
              <a:rPr b="0" lang="en-US" sz="4400" spc="-1" strike="noStrike">
                <a:solidFill>
                  <a:srgbClr val="000000"/>
                </a:solidFill>
                <a:latin typeface="Calibri"/>
              </a:rPr>
              <a:t>I’ll pull out sections that seem especially pertin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2.012. INELIGIBILITY TO AFFILIATE WITH ANOTHER PARTY. A person who is affiliated with a political party is ineligible to become affiliated with another political party during the same voting ye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162.014. UNLAWFUL PARTICIPATION IN PARTY AFFAIRS. (a) A person commits an offense if the person knowingly votes or attempts to vote in a primary election or participates or attempts to participate in a convention of a party after having voted in a primary election or participated in a convention of another party during the same voting year.</a:t>
            </a:r>
            <a:br>
              <a:rPr sz="3200"/>
            </a:br>
            <a:r>
              <a:rPr b="0" lang="en-US" sz="3200" spc="-1" strike="noStrike">
                <a:solidFill>
                  <a:srgbClr val="000000"/>
                </a:solidFill>
                <a:latin typeface="Calibri"/>
              </a:rPr>
              <a:t>(b) An offense under this section is a Class C misdemean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 162.015. RESTRICTIONS ON CANDIDACY IN GENERAL ELECTION BY CANDIDATE OR VOTER IN PRIMARY. </a:t>
            </a:r>
            <a:br>
              <a:rPr sz="2000"/>
            </a:br>
            <a:br>
              <a:rPr sz="2000"/>
            </a:br>
            <a:r>
              <a:rPr b="0" lang="en-US" sz="2000" spc="-1" strike="noStrike">
                <a:solidFill>
                  <a:srgbClr val="000000"/>
                </a:solidFill>
                <a:latin typeface="Calibri"/>
              </a:rPr>
              <a:t>(a) A person who voted at a primary election or who was a candidate for nomination in a primary is ineligible for a place on the ballot for the succeeding general election for state and county officers as:</a:t>
            </a:r>
            <a:br>
              <a:rPr sz="2000"/>
            </a:br>
            <a:br>
              <a:rPr sz="2000"/>
            </a:br>
            <a:r>
              <a:rPr b="0" lang="en-US" sz="2000" spc="-1" strike="noStrike">
                <a:solidFill>
                  <a:srgbClr val="000000"/>
                </a:solidFill>
                <a:latin typeface="Calibri"/>
              </a:rPr>
              <a:t>(1) an independent candidate for an office for which a candidate was nominated in the primary; or</a:t>
            </a:r>
            <a:br>
              <a:rPr sz="2000"/>
            </a:br>
            <a:br>
              <a:rPr sz="2000"/>
            </a:br>
            <a:r>
              <a:rPr b="0" lang="en-US" sz="2000" spc="-1" strike="noStrike">
                <a:solidFill>
                  <a:srgbClr val="000000"/>
                </a:solidFill>
                <a:latin typeface="Calibri"/>
              </a:rPr>
              <a:t>(2) the nominee of a political party other than the party holding the primary in which the person voted or was a candidate.</a:t>
            </a:r>
            <a:br>
              <a:rPr sz="2000"/>
            </a:br>
            <a:br>
              <a:rPr sz="2000"/>
            </a:br>
            <a:r>
              <a:rPr b="0" lang="en-US" sz="2000" spc="-1" strike="noStrike">
                <a:solidFill>
                  <a:srgbClr val="000000"/>
                </a:solidFill>
                <a:latin typeface="Calibri"/>
              </a:rPr>
              <a:t>(b) A person who was a candidate for nomination in a primary election is ineligible for a place on the list of write-in candidates for the succeeding general election for state and county officers as a write-in candidate for the office sought by that candidate in the primary.</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Rules</a:t>
            </a:r>
            <a:br>
              <a:rPr sz="4400"/>
            </a:br>
            <a:br>
              <a:rPr sz="4400"/>
            </a:br>
            <a:r>
              <a:rPr b="0" lang="en-US" sz="4400" spc="-1" strike="noStrike" u="sng">
                <a:solidFill>
                  <a:srgbClr val="0000ff"/>
                </a:solidFill>
                <a:uFillTx/>
                <a:latin typeface="Calibri"/>
                <a:hlinkClick r:id="rId1"/>
              </a:rPr>
              <a:t>Chapter 163</a:t>
            </a:r>
            <a:br>
              <a:rPr sz="4400"/>
            </a:br>
            <a:br>
              <a:rPr sz="4400"/>
            </a:br>
            <a:r>
              <a:rPr b="0" lang="en-US" sz="4400" spc="-1" strike="noStrike">
                <a:solidFill>
                  <a:srgbClr val="000000"/>
                </a:solidFill>
                <a:latin typeface="Calibri"/>
              </a:rPr>
              <a:t>Some S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 163.002. REQUIRED RULES. A political party that makes nominations in this state shall adopt rules that:</a:t>
            </a:r>
            <a:br>
              <a:rPr sz="2000"/>
            </a:br>
            <a:r>
              <a:rPr b="0" lang="en-US" sz="2000" spc="-1" strike="noStrike">
                <a:solidFill>
                  <a:srgbClr val="000000"/>
                </a:solidFill>
                <a:latin typeface="Calibri"/>
              </a:rPr>
              <a:t>(1) prescribe the parliamentary procedure governing the conduct of party meetings and conventions from the precinct level to the state level, including:</a:t>
            </a:r>
            <a:br>
              <a:rPr sz="2000"/>
            </a:br>
            <a:r>
              <a:rPr b="0" lang="en-US" sz="2000" spc="-1" strike="noStrike">
                <a:solidFill>
                  <a:srgbClr val="000000"/>
                </a:solidFill>
                <a:latin typeface="Calibri"/>
              </a:rPr>
              <a:t>(A) quorums;</a:t>
            </a:r>
            <a:br>
              <a:rPr sz="2000"/>
            </a:br>
            <a:r>
              <a:rPr b="0" lang="en-US" sz="2000" spc="-1" strike="noStrike">
                <a:solidFill>
                  <a:srgbClr val="000000"/>
                </a:solidFill>
                <a:latin typeface="Calibri"/>
              </a:rPr>
              <a:t>(B) casting and counting votes;</a:t>
            </a:r>
            <a:br>
              <a:rPr sz="2000"/>
            </a:br>
            <a:r>
              <a:rPr b="0" lang="en-US" sz="2000" spc="-1" strike="noStrike">
                <a:solidFill>
                  <a:srgbClr val="000000"/>
                </a:solidFill>
                <a:latin typeface="Calibri"/>
              </a:rPr>
              <a:t>(C) operation of executive committees;</a:t>
            </a:r>
            <a:br>
              <a:rPr sz="2000"/>
            </a:br>
            <a:r>
              <a:rPr b="0" lang="en-US" sz="2000" spc="-1" strike="noStrike">
                <a:solidFill>
                  <a:srgbClr val="000000"/>
                </a:solidFill>
                <a:latin typeface="Calibri"/>
              </a:rPr>
              <a:t>(D) appointment and duties of convention committees; and</a:t>
            </a:r>
            <a:br>
              <a:rPr sz="2000"/>
            </a:br>
            <a:r>
              <a:rPr b="0" lang="en-US" sz="2000" spc="-1" strike="noStrike">
                <a:solidFill>
                  <a:srgbClr val="000000"/>
                </a:solidFill>
                <a:latin typeface="Calibri"/>
              </a:rPr>
              <a:t>(E) presentation of matters before a convention;</a:t>
            </a:r>
            <a:br>
              <a:rPr sz="2000"/>
            </a:br>
            <a:r>
              <a:rPr b="0" lang="en-US" sz="2000" spc="-1" strike="noStrike">
                <a:solidFill>
                  <a:srgbClr val="000000"/>
                </a:solidFill>
                <a:latin typeface="Calibri"/>
              </a:rPr>
              <a:t>(2) prescribe the method of selecting the party's presidential elector candidates;</a:t>
            </a:r>
            <a:br>
              <a:rPr sz="2000"/>
            </a:br>
            <a:r>
              <a:rPr b="0" lang="en-US" sz="2000" spc="-1" strike="noStrike">
                <a:solidFill>
                  <a:srgbClr val="000000"/>
                </a:solidFill>
                <a:latin typeface="Calibri"/>
              </a:rPr>
              <a:t>(3) prescribe the manner of selecting party officers, convention delegates, convention alternates, and convention officials;</a:t>
            </a:r>
            <a:br>
              <a:rPr sz="2000"/>
            </a:br>
            <a:r>
              <a:rPr b="0" lang="en-US" sz="2000" spc="-1" strike="noStrike">
                <a:solidFill>
                  <a:srgbClr val="000000"/>
                </a:solidFill>
                <a:latin typeface="Calibri"/>
              </a:rPr>
              <a:t>(4) provide for representative apportionment of party officers, convention delegates, convention alternates, and convention officials throughout the state on the basis of population, party strength, or both, within the appropriate territorial unit;</a:t>
            </a:r>
            <a:br>
              <a:rPr sz="2000"/>
            </a:br>
            <a:r>
              <a:rPr b="0" lang="en-US" sz="2000" spc="-1" strike="noStrike">
                <a:solidFill>
                  <a:srgbClr val="000000"/>
                </a:solidFill>
                <a:latin typeface="Calibri"/>
              </a:rPr>
              <a:t>(5) provide for periodic publication and publicizing of party rules; and</a:t>
            </a:r>
            <a:br>
              <a:rPr sz="2000"/>
            </a:br>
            <a:r>
              <a:rPr b="0" lang="en-US" sz="2000" spc="-1" strike="noStrike">
                <a:solidFill>
                  <a:srgbClr val="000000"/>
                </a:solidFill>
                <a:latin typeface="Calibri"/>
              </a:rPr>
              <a:t>(6) prescribe the manner of adopting party rules and amendments to the ru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alibri"/>
              </a:rPr>
              <a:t>Sec. 163.004. ADOPTING RULES. (a) A political party's rules, including amendments to rules, governing or affecting its general or runoff primary elections, conventions held under this code, or nominees may be adopted only by:</a:t>
            </a:r>
            <a:br>
              <a:rPr sz="2400"/>
            </a:br>
            <a:r>
              <a:rPr b="0" lang="en-US" sz="2400" spc="-1" strike="noStrike">
                <a:solidFill>
                  <a:srgbClr val="000000"/>
                </a:solidFill>
                <a:latin typeface="Calibri"/>
              </a:rPr>
              <a:t>(1) a state convention; or</a:t>
            </a:r>
            <a:br>
              <a:rPr sz="2400"/>
            </a:br>
            <a:r>
              <a:rPr b="0" lang="en-US" sz="2400" spc="-1" strike="noStrike">
                <a:solidFill>
                  <a:srgbClr val="000000"/>
                </a:solidFill>
                <a:latin typeface="Calibri"/>
              </a:rPr>
              <a:t>(2) the state executive committee as a temporary rule, if adoption before the next state convention is necessary.</a:t>
            </a:r>
            <a:br>
              <a:rPr sz="2400"/>
            </a:br>
            <a:r>
              <a:rPr b="0" lang="en-US" sz="2400" spc="-1" strike="noStrike">
                <a:solidFill>
                  <a:srgbClr val="000000"/>
                </a:solidFill>
                <a:latin typeface="Calibri"/>
              </a:rPr>
              <a:t>(b) A temporary rule must be considered by the first state convention following its adoption. The state convention may rescind, modify, or ratify the temporary rule. If the state convention fails to act, the temporary rule expires on the day after the date the convention adjourns.</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3.005. FILING RULES WITH SECRETARY OF STATE; EFFECTIVE DATE. (a) The state chair shall file a copy of each rule on electoral affairs with the secretary of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3.007. RULES ENFORCEABLE BY MANDAMUS. A rule on electoral affairs is enforceable by writ of mandamus in the same manner as if the rule were a statu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Nominating by Primary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zation</a:t>
            </a:r>
            <a:br>
              <a:rPr sz="4400"/>
            </a:br>
            <a:br>
              <a:rPr sz="4400"/>
            </a:br>
            <a:r>
              <a:rPr b="0" lang="en-US" sz="4400" spc="-1" strike="noStrike" u="sng">
                <a:solidFill>
                  <a:srgbClr val="0000ff"/>
                </a:solidFill>
                <a:uFillTx/>
                <a:latin typeface="Calibri"/>
                <a:hlinkClick r:id="rId1"/>
              </a:rPr>
              <a:t>Chapter 171</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Some S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Election Code, Title 10</a:t>
            </a:r>
            <a:br>
              <a:rPr sz="4400"/>
            </a:br>
            <a:br>
              <a:rPr sz="4400"/>
            </a:br>
            <a:r>
              <a:rPr b="0" lang="en-US" sz="4400" spc="-1" strike="noStrike">
                <a:solidFill>
                  <a:srgbClr val="000000"/>
                </a:solidFill>
                <a:latin typeface="Calibri"/>
              </a:rPr>
              <a:t>Chapters 161 to 18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1.001. STATE EXECUTIVE COMMITTEE ESTABLISHED. A state executive committee is established as provided by this subchapter for each political party holding a primary election in this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1.002. COMMITTEE COMPOSITION. (a) The state executive committee consists of two members from each state senatorial district. One of each district's members must be a man and the other a wom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1.021. COUNTY EXECUTIVE COMMITTEE ESTABLISHED. For each county in which a primary election is held, a county executive committee is established as provided by this subchapter for the political party holding the pri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 171.022. COMMITTEE COMPOSITION. (a) A county executive committee consists of:</a:t>
            </a:r>
            <a:br>
              <a:rPr sz="2000"/>
            </a:br>
            <a:r>
              <a:rPr b="0" lang="en-US" sz="2000" spc="-1" strike="noStrike">
                <a:solidFill>
                  <a:srgbClr val="000000"/>
                </a:solidFill>
                <a:latin typeface="Calibri"/>
              </a:rPr>
              <a:t>(1) a county chair, who is the presiding officer, elected at the general primary election by majority vote of the qualified voters of the county who vote in the primary on that office or appointed by the county executive committee as provided by this subchapter; and</a:t>
            </a:r>
            <a:br>
              <a:rPr sz="2000"/>
            </a:br>
            <a:r>
              <a:rPr b="0" lang="en-US" sz="2000" spc="-1" strike="noStrike">
                <a:solidFill>
                  <a:srgbClr val="000000"/>
                </a:solidFill>
                <a:latin typeface="Calibri"/>
              </a:rPr>
              <a:t>(2) a precinct chair from each county election precinct, elected at the general primary by majority vote of the qualified voters of the precinct who vote in the primary on that office, subject to Section 171.0221, or appointed by the county executive committee as provided by this subchapter.</a:t>
            </a:r>
            <a:br>
              <a:rPr sz="2000"/>
            </a:br>
            <a:r>
              <a:rPr b="0" lang="en-US" sz="2000" spc="-1" strike="noStrike">
                <a:solidFill>
                  <a:srgbClr val="000000"/>
                </a:solidFill>
                <a:latin typeface="Calibri"/>
              </a:rPr>
              <a:t>(b) Except as provided by Subsection (d), if no candidate receives a majority of the votes, a runoff to determine the office is conducted in the same manner as a runoff primary election to determine a nomination for public office. The candidates to be in a runoff are determined in the same manner as candidates in a runoff for a nomination.</a:t>
            </a:r>
            <a:br>
              <a:rPr sz="2000"/>
            </a:br>
            <a:r>
              <a:rPr b="0" lang="en-US" sz="2000" spc="-1" strike="noStrike">
                <a:solidFill>
                  <a:srgbClr val="000000"/>
                </a:solidFill>
                <a:latin typeface="Calibri"/>
              </a:rPr>
              <a:t>(c) Each committee member serves for a term of two years beginning the 20th day after runoff primary election day.</a:t>
            </a:r>
            <a:br>
              <a:rPr sz="2000"/>
            </a:br>
            <a:r>
              <a:rPr b="0" lang="en-US" sz="2000" spc="-1" strike="noStrike">
                <a:solidFill>
                  <a:srgbClr val="000000"/>
                </a:solidFill>
                <a:latin typeface="Calibri"/>
              </a:rPr>
              <a:t>(d) The state executive committee by rule may provide for the election of the county chair or precinct chairs of a particular county by plurality vote.</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171.0221. ELECTION NOT HELD FOR OFFICE OF PRECINCT CHAIR. (a) If only one candidate's name is to be placed on the ballot for the office of precinct chair and no candidate's name is to be placed on the list of write-in candidates for that office, the election for that office is not held, and the unopposed candidate, if otherwise eligible, shall be declared elected to the office at the time of the local canva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1.023. RESIDENCE OF PRECINCT CHAIR. (a) To be eligible to be a candidate for or to serve as a precinct chair, a person must reside in the election precinct in addition to satisfying the other applicable eligibility requir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Elections</a:t>
            </a:r>
            <a:br>
              <a:rPr sz="4400"/>
            </a:br>
            <a:br>
              <a:rPr sz="4400"/>
            </a:br>
            <a:r>
              <a:rPr b="0" lang="en-US" sz="4400" spc="-1" strike="noStrike" u="sng">
                <a:solidFill>
                  <a:srgbClr val="0000ff"/>
                </a:solidFill>
                <a:uFillTx/>
                <a:latin typeface="Calibri"/>
                <a:hlinkClick r:id="rId1"/>
              </a:rPr>
              <a:t>Chapter 172</a:t>
            </a:r>
            <a:br>
              <a:rPr sz="4400"/>
            </a:br>
            <a:br>
              <a:rPr sz="4400"/>
            </a:br>
            <a:r>
              <a:rPr b="0" lang="en-US" sz="4400" spc="-1" strike="noStrike">
                <a:solidFill>
                  <a:srgbClr val="000000"/>
                </a:solidFill>
                <a:latin typeface="Calibri"/>
              </a:rPr>
              <a:t>Some S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172.001. NOMINATING BY PRIMARY ELECTION REQUIRED. Except as otherwise provided by this code, a political party's nominees in the general election for offices of state and county government and the United States Congress must be nominated by primary election, held as provided by this code, if the party's nominee for governor in the most recent gubernatorial general election received 20 percent or more of the total number of votes received by all candidates for governor in the el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rPr>
              <a:t>Sec. 172.002. NOMINATING BY PRIMARY ELECTION AUTHORIZED. (a) Except as otherwise provided by this code, a political party's nominees in the general election for offices of state and county government and the United States Congress may be nominated by primary election, held as provided by this code, if the party's nominee for governor in the most recent gubernatorial general election received at least two percent but less than 20 percent of the total number of votes received by all candidates for governor in the election.</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2.003. MAJORITY VOTE REQUIRED. Except as otherwise provided by this code, to receive a political party's nomination, a candidate in a primary election must receive a majority of the total number of votes received by all the candidates for the nom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ory Prov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2.004. RUNOFF PRIMARY. (a) If no candidate for nomination to a particular office receives the vote required for nomination in the general primary election, a runoff primary election shall be held to determine the nom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2.021. APPLICATION REQUIRED. (a) To be entitled to a place on the general primary election ballot, a candidate must make an application for a place on the ball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 172.024. FILING FEE. (a) The filing fee for a candidate for nomination in the general primary election is as follows:</a:t>
            </a:r>
            <a:br>
              <a:rPr sz="2400"/>
            </a:br>
            <a:r>
              <a:rPr b="0" lang="en-US" sz="2400" spc="-1" strike="noStrike">
                <a:solidFill>
                  <a:srgbClr val="000000"/>
                </a:solidFill>
                <a:latin typeface="Calibri"/>
              </a:rPr>
              <a:t>(1) United States senator </a:t>
            </a:r>
            <a:br>
              <a:rPr sz="2400"/>
            </a:br>
            <a:r>
              <a:rPr b="0" lang="en-US" sz="2400" spc="-1" strike="noStrike">
                <a:solidFill>
                  <a:srgbClr val="000000"/>
                </a:solidFill>
                <a:latin typeface="Calibri"/>
              </a:rPr>
              <a:t>$5,000</a:t>
            </a:r>
            <a:br>
              <a:rPr sz="2400"/>
            </a:br>
            <a:r>
              <a:rPr b="0" lang="en-US" sz="2400" spc="-1" strike="noStrike">
                <a:solidFill>
                  <a:srgbClr val="000000"/>
                </a:solidFill>
                <a:latin typeface="Calibri"/>
              </a:rPr>
              <a:t>(2) office elected statewide, except United States senator </a:t>
            </a:r>
            <a:br>
              <a:rPr sz="2400"/>
            </a:br>
            <a:r>
              <a:rPr b="0" lang="en-US" sz="2400" spc="-1" strike="noStrike">
                <a:solidFill>
                  <a:srgbClr val="000000"/>
                </a:solidFill>
                <a:latin typeface="Calibri"/>
              </a:rPr>
              <a:t>3,750</a:t>
            </a:r>
            <a:br>
              <a:rPr sz="2400"/>
            </a:br>
            <a:r>
              <a:rPr b="0" lang="en-US" sz="2400" spc="-1" strike="noStrike">
                <a:solidFill>
                  <a:srgbClr val="000000"/>
                </a:solidFill>
                <a:latin typeface="Calibri"/>
              </a:rPr>
              <a:t>(3) United States representative </a:t>
            </a:r>
            <a:br>
              <a:rPr sz="2400"/>
            </a:br>
            <a:r>
              <a:rPr b="0" lang="en-US" sz="2400" spc="-1" strike="noStrike">
                <a:solidFill>
                  <a:srgbClr val="000000"/>
                </a:solidFill>
                <a:latin typeface="Calibri"/>
              </a:rPr>
              <a:t>3,125</a:t>
            </a:r>
            <a:br>
              <a:rPr sz="2400"/>
            </a:br>
            <a:r>
              <a:rPr b="0" lang="en-US" sz="2400" spc="-1" strike="noStrike">
                <a:solidFill>
                  <a:srgbClr val="000000"/>
                </a:solidFill>
                <a:latin typeface="Calibri"/>
              </a:rPr>
              <a:t>(4) state senator </a:t>
            </a:r>
            <a:br>
              <a:rPr sz="2400"/>
            </a:br>
            <a:r>
              <a:rPr b="0" lang="en-US" sz="2400" spc="-1" strike="noStrike">
                <a:solidFill>
                  <a:srgbClr val="000000"/>
                </a:solidFill>
                <a:latin typeface="Calibri"/>
              </a:rPr>
              <a:t>1,250</a:t>
            </a:r>
            <a:br>
              <a:rPr sz="2400"/>
            </a:br>
            <a:r>
              <a:rPr b="0" lang="en-US" sz="2400" spc="-1" strike="noStrike">
                <a:solidFill>
                  <a:srgbClr val="000000"/>
                </a:solidFill>
                <a:latin typeface="Calibri"/>
              </a:rPr>
              <a:t>(5) state representative </a:t>
            </a:r>
            <a:br>
              <a:rPr sz="2400"/>
            </a:br>
            <a:r>
              <a:rPr b="0" lang="en-US" sz="2400" spc="-1" strike="noStrike">
                <a:solidFill>
                  <a:srgbClr val="000000"/>
                </a:solidFill>
                <a:latin typeface="Calibri"/>
              </a:rPr>
              <a:t>750</a:t>
            </a:r>
            <a:br>
              <a:rPr sz="2400"/>
            </a:br>
            <a:r>
              <a:rPr b="0" lang="en-US" sz="2400" spc="-1" strike="noStrike">
                <a:solidFill>
                  <a:srgbClr val="000000"/>
                </a:solidFill>
                <a:latin typeface="Calibri"/>
              </a:rPr>
              <a:t>(6) member, State Board of Education </a:t>
            </a:r>
            <a:br>
              <a:rPr sz="2400"/>
            </a:br>
            <a:r>
              <a:rPr b="0" lang="en-US" sz="2400" spc="-1" strike="noStrike">
                <a:solidFill>
                  <a:srgbClr val="000000"/>
                </a:solidFill>
                <a:latin typeface="Calibri"/>
              </a:rPr>
              <a:t>300</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 172.025. NUMBER OF PETITION SIGNATURES REQUIRED. The minimum number of signatures that must appear on the petition authorized by Section 172.021(b) is:</a:t>
            </a:r>
            <a:br>
              <a:rPr sz="2400"/>
            </a:br>
            <a:r>
              <a:rPr b="0" lang="en-US" sz="2400" spc="-1" strike="noStrike">
                <a:solidFill>
                  <a:srgbClr val="000000"/>
                </a:solidFill>
                <a:latin typeface="Calibri"/>
              </a:rPr>
              <a:t>(1) 5,000, for a statewide office; or</a:t>
            </a:r>
            <a:br>
              <a:rPr sz="2400"/>
            </a:br>
            <a:r>
              <a:rPr b="0" lang="en-US" sz="2400" spc="-1" strike="noStrike">
                <a:solidFill>
                  <a:srgbClr val="000000"/>
                </a:solidFill>
                <a:latin typeface="Calibri"/>
              </a:rPr>
              <a:t>(2) for a district, county, or precinct office, the lesser of:</a:t>
            </a:r>
            <a:br>
              <a:rPr sz="2400"/>
            </a:br>
            <a:r>
              <a:rPr b="0" lang="en-US" sz="2400" spc="-1" strike="noStrike">
                <a:solidFill>
                  <a:srgbClr val="000000"/>
                </a:solidFill>
                <a:latin typeface="Calibri"/>
              </a:rPr>
              <a:t>(A) 500; or</a:t>
            </a:r>
            <a:br>
              <a:rPr sz="2400"/>
            </a:br>
            <a:r>
              <a:rPr b="0" lang="en-US" sz="2400" spc="-1" strike="noStrike">
                <a:solidFill>
                  <a:srgbClr val="000000"/>
                </a:solidFill>
                <a:latin typeface="Calibri"/>
              </a:rPr>
              <a:t>(B) two percent of the total vote received in the district, county, or precinct, as applicable, by all the candidates for governor in the most recent gubernatorial general election, unless that number is under 50, in which case the required number of signatures is the lesser of:</a:t>
            </a:r>
            <a:br>
              <a:rPr sz="2400"/>
            </a:br>
            <a:r>
              <a:rPr b="0" lang="en-US" sz="2400" spc="-1" strike="noStrike">
                <a:solidFill>
                  <a:srgbClr val="000000"/>
                </a:solidFill>
                <a:latin typeface="Calibri"/>
              </a:rPr>
              <a:t>(i) 50; or</a:t>
            </a:r>
            <a:br>
              <a:rPr sz="2400"/>
            </a:br>
            <a:r>
              <a:rPr b="0" lang="en-US" sz="2400" spc="-1" strike="noStrike">
                <a:solidFill>
                  <a:srgbClr val="000000"/>
                </a:solidFill>
                <a:latin typeface="Calibri"/>
              </a:rPr>
              <a:t>(ii) 20 percent of that total vote</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Sec. 172.085. NAME OF PARTY ON BALLOT. The name of the political party holding a primary election shall be placed at the top of the primary ballot.</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72.086. PLEDGE ON BALLOT. The following pledge shall be placed on the primary election ballot above the listing of candidates' names: "I am a </a:t>
            </a:r>
            <a:r>
              <a:rPr b="0" lang="en-US" sz="3600" spc="-1" strike="noStrike" u="sng">
                <a:solidFill>
                  <a:srgbClr val="000000"/>
                </a:solidFill>
                <a:uFillTx/>
                <a:latin typeface="Calibri"/>
              </a:rPr>
              <a:t>(insert appropriate political party)</a:t>
            </a:r>
            <a:r>
              <a:rPr b="0" lang="en-US" sz="3600" spc="-1" strike="noStrike">
                <a:solidFill>
                  <a:srgbClr val="000000"/>
                </a:solidFill>
                <a:latin typeface="Calibri"/>
              </a:rPr>
              <a:t> and understand that I am ineligible to vote or participate in another political party's primary election or convention during this voting yea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172.087. REFERENDUM ORDERED BY STATE EXECUTIVE COMMITTEE. The state executive committee may provide by resolution that a proposal to include a demand for specific legislation or any other matter in the party's platform or resolutions be submitted to a vote by placement on the general primary election ballot. The state executive committee shall prescribe the wording of the proposition submitting a propos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2.090. SEPARATE BALLOT FOR OFFICE OF PRECINCT CHAIR. (a) In a primary election in which election precincts are consolidated, the county executive committee may provide by resolution, order, or other official action for voting in a consolidated precinct by separate paper ballot for the office of precinct chai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72.1111. POSTING NOTICE OF PRECINCT CONVENTION REQUIRED. (a) Before the opening of the polls, the presiding judge shall post at each outside door through which a voter may enter the building in which the polling place is located a written notice in bold print of the date, hour, and place for convening the precinct conven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2.116. LOCAL CANVASS. (a) The county executive committee shall canvass the precinct election returns for the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Provisions</a:t>
            </a:r>
            <a:br>
              <a:rPr sz="4400"/>
            </a:br>
            <a:br>
              <a:rPr sz="4400"/>
            </a:br>
            <a:r>
              <a:rPr b="0" lang="en-US" sz="4400" spc="-1" strike="noStrike" u="sng">
                <a:solidFill>
                  <a:srgbClr val="0000ff"/>
                </a:solidFill>
                <a:uFillTx/>
                <a:latin typeface="Calibri"/>
                <a:hlinkClick r:id="rId1"/>
              </a:rPr>
              <a:t>Chapter 161</a:t>
            </a:r>
            <a:br>
              <a:rPr sz="4400"/>
            </a:br>
            <a:br>
              <a:rPr sz="4400"/>
            </a:br>
            <a:r>
              <a:rPr b="0" lang="en-US" sz="4400" spc="-1" strike="noStrike">
                <a:solidFill>
                  <a:srgbClr val="000000"/>
                </a:solidFill>
                <a:latin typeface="Calibri"/>
              </a:rPr>
              <a:t>Some s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72.119. COUNTY ELECTION RETURNS. (a) The county chair shall prepare county election returns for the statewide and district offices voted on in a primary election in the same manner as the county returns for a general election are prepared by the county clerk except that separate returns for the offices of governor and lieutenant governor are not prepar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72.124. REPORTING PRECINCT RESULTS TO SECRETARY OF STATE. (a) For each primary election, the county chair shall prepare a report of the number of votes, including early voting votes, received in each county election precinct by each candidate for a statewide office or the office of United States representative, state senator, or state representative, as provided by Section 67.017 for the report of precinct results for a general elec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172.127. CONTENT OF SIGN USED TO IDENTIFY POLLING PLACE LOCATION. (a) This section applies only to a polling place used to hold an election for more than one political party.</a:t>
            </a:r>
            <a:br>
              <a:rPr sz="2800"/>
            </a:br>
            <a:r>
              <a:rPr b="0" lang="en-US" sz="2800" spc="-1" strike="noStrike">
                <a:solidFill>
                  <a:srgbClr val="000000"/>
                </a:solidFill>
                <a:latin typeface="Calibri"/>
              </a:rPr>
              <a:t>(b) A sign used to indicate the location of a polling place for a primary election or a primary runoff election must either:</a:t>
            </a:r>
            <a:br>
              <a:rPr sz="2800"/>
            </a:br>
            <a:r>
              <a:rPr b="0" lang="en-US" sz="2800" spc="-1" strike="noStrike">
                <a:solidFill>
                  <a:srgbClr val="000000"/>
                </a:solidFill>
                <a:latin typeface="Calibri"/>
              </a:rPr>
              <a:t>(1) not contain the name of, or symbol representing, any political party that is holding an election at the polling place; or</a:t>
            </a:r>
            <a:br>
              <a:rPr sz="2800"/>
            </a:br>
            <a:r>
              <a:rPr b="0" lang="en-US" sz="2800" spc="-1" strike="noStrike">
                <a:solidFill>
                  <a:srgbClr val="000000"/>
                </a:solidFill>
                <a:latin typeface="Calibri"/>
              </a:rPr>
              <a:t>(2) contain each name of, or each symbol representing, a political party that is holding an election at the polling pla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Election Financing</a:t>
            </a:r>
            <a:br>
              <a:rPr sz="4400"/>
            </a:br>
            <a:br>
              <a:rPr sz="4400"/>
            </a:br>
            <a:r>
              <a:rPr b="0" lang="en-US" sz="4400" spc="-1" strike="noStrike" u="sng">
                <a:solidFill>
                  <a:srgbClr val="0000ff"/>
                </a:solidFill>
                <a:uFillTx/>
                <a:latin typeface="Calibri"/>
                <a:hlinkClick r:id="rId1"/>
              </a:rPr>
              <a:t>Chapter 173</a:t>
            </a:r>
            <a:br>
              <a:rPr sz="4400"/>
            </a:br>
            <a:br>
              <a:rPr sz="4400"/>
            </a:br>
            <a:r>
              <a:rPr b="0" lang="en-US" sz="4400" spc="-1" strike="noStrike">
                <a:solidFill>
                  <a:srgbClr val="000000"/>
                </a:solidFill>
                <a:latin typeface="Calibri"/>
              </a:rPr>
              <a:t>Some S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3.001. STATE FUNDS FOR PRIMARY AUTHORIZED. (a) Subject to legislative appropriation, state funds may be spent as provided by this chapter to pay expenses incurred by a political party in connection with a primary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3.002. STATE NOT LIABLE FOR PRIMARY EXPENSES. The state is not liable for the failure of a political party to pay expenses the party incurs in holding a primary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73.003. EXPENSES INCURRED BY COUNTY. Except as otherwise provided by law, the county shall pay all the expenses incurred in connection with early voting in a primary election, except expenses relating to the printing of early voting ballots, and any other expenses incurred by a county authority in connection with a primary elec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173.005. STATE COMPENSATION FOR TRAINING ELECTION JUDGES. The maximum hourly rate payable with state funds in a particular primary election year to election judges serving in a primary election for attending training programs is the same as the maximum rate prescribed by this code for compensation for attending a training program for election judges appointed to serve in elections ordered by the governor or a county author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3.031. COUNTY PRIMARY FUND. (a) A county primary fund is created for each county executive committee of a political party holding a primary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Sec. 173.032. STATE PRIMARY FUND. (a) A state primary fund is created for the state executive committee of each political party holding a primary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161.002. PARTY NAME. (a) The name of a political party as printed on the ballot for an election may not consist of more than three words.</a:t>
            </a:r>
            <a:br>
              <a:rPr sz="3200"/>
            </a:br>
            <a:br>
              <a:rPr sz="3200"/>
            </a:br>
            <a:r>
              <a:rPr b="0" lang="en-US" sz="3200" spc="-1" strike="noStrike">
                <a:solidFill>
                  <a:srgbClr val="000000"/>
                </a:solidFill>
                <a:latin typeface="Calibri"/>
              </a:rPr>
              <a:t>(b) A party may not select for its name a name previously assumed by another existing party.</a:t>
            </a:r>
            <a:br>
              <a:rPr sz="3200"/>
            </a:br>
            <a:br>
              <a:rPr sz="3200"/>
            </a:br>
            <a:br>
              <a:rPr sz="3200"/>
            </a:br>
            <a:r>
              <a:rPr b="0" lang="en-US" sz="3200" spc="-1" strike="noStrike">
                <a:solidFill>
                  <a:srgbClr val="000000"/>
                </a:solidFill>
                <a:latin typeface="Calibri"/>
              </a:rPr>
              <a:t>Acts 1985, 69th Leg., ch. 211, Sec. 1, eff. Jan. 1, 198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ventions</a:t>
            </a:r>
            <a:br>
              <a:rPr sz="4400"/>
            </a:br>
            <a:br>
              <a:rPr sz="4400"/>
            </a:br>
            <a:r>
              <a:rPr b="0" lang="en-US" sz="4400" spc="-1" strike="noStrike" u="sng">
                <a:solidFill>
                  <a:srgbClr val="0000ff"/>
                </a:solidFill>
                <a:uFillTx/>
                <a:latin typeface="Calibri"/>
                <a:hlinkClick r:id="rId1"/>
              </a:rPr>
              <a:t>Chapter 174</a:t>
            </a:r>
            <a:br>
              <a:rPr sz="4400"/>
            </a:br>
            <a:br>
              <a:rPr sz="4400"/>
            </a:br>
            <a:r>
              <a:rPr b="0" lang="en-US" sz="4400" spc="-1" strike="noStrike">
                <a:solidFill>
                  <a:srgbClr val="000000"/>
                </a:solidFill>
                <a:latin typeface="Calibri"/>
              </a:rPr>
              <a:t>Some S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4.002. MEDIA ACCESS. Representatives of the broadcast and print news media are entitled to attend a convention held under this chapter for the purpose of reporting its proceed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74.003. DELEGATE TO BE QUALIFIED VOTER. In addition to the requirement of party affiliation, to be eligible to serve as a delegate to a county, senatorial district, or state convention held under this chapter, a person must be a qualified voter of the territory that the person is selected to represent or a resident of that territory who is eligible to vote a limited ballo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74.022. TIME AND PLACE OF CONVENTION. (a) The precinct conventions may be held in the regular county election precincts on:</a:t>
            </a:r>
            <a:br>
              <a:rPr sz="3600"/>
            </a:br>
            <a:r>
              <a:rPr b="0" lang="en-US" sz="3600" spc="-1" strike="noStrike">
                <a:solidFill>
                  <a:srgbClr val="000000"/>
                </a:solidFill>
                <a:latin typeface="Calibri"/>
              </a:rPr>
              <a:t>(1) general primary election day; and</a:t>
            </a:r>
            <a:br>
              <a:rPr sz="3600"/>
            </a:br>
            <a:r>
              <a:rPr b="0" lang="en-US" sz="3600" spc="-1" strike="noStrike">
                <a:solidFill>
                  <a:srgbClr val="000000"/>
                </a:solidFill>
                <a:latin typeface="Calibri"/>
              </a:rPr>
              <a:t>(2) a date determined by the county executive committee that occurs not later than the fifth day after the date of the general primary elec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4.025. ORGANIZING THE CONVENTION. (a) The precinct chair is the temporary chair of the precinct convention held under this subchap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4.026. CONVENTION BUSINESS. After the convention is organized, the convention shall select its delegates to the county or senatorial district convention and conduct any other convention busi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74.063. TIME AND PLACE OF CONVENTION. (a) The county and senatorial district conventions shall be held on the third Saturday after general primary election day. However, if that date occurs during Passover or on the day following Good Friday, the conventions shall be held on the next Saturday that does not occur during Passover or on the day following Good Frida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4.068. VOTING AT CONVENTION. (a) The delegates selected by a particular precinct convention who attend the county or senatorial district convention are entitled to cast a number of votes equal to as many delegates as that precinct convention was entitled to sel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4.091. BIENNIAL STATE CONVENTION. Each political party shall hold a state convention in each even-numbered year as provided by this subchap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4.092. TIME AND PLACE OF CONVENTION. (a) The biennial state convention shall be convened on any day in June or Ju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161.005. ELIGIBILITY FOR PARTY OFFICES GENERALLY. (a) To be eligible to be a candidate for or to serve as a county or precinct chair of a political party, a person must:</a:t>
            </a:r>
            <a:br>
              <a:rPr sz="3200"/>
            </a:br>
            <a:br>
              <a:rPr sz="3200"/>
            </a:br>
            <a:r>
              <a:rPr b="0" lang="en-US" sz="3200" spc="-1" strike="noStrike">
                <a:solidFill>
                  <a:srgbClr val="000000"/>
                </a:solidFill>
                <a:latin typeface="Calibri"/>
              </a:rPr>
              <a:t>(1) be a qualified voter of the county; and</a:t>
            </a:r>
            <a:br>
              <a:rPr sz="3200"/>
            </a:br>
            <a:br>
              <a:rPr sz="3200"/>
            </a:br>
            <a:r>
              <a:rPr b="0" lang="en-US" sz="3200" spc="-1" strike="noStrike">
                <a:solidFill>
                  <a:srgbClr val="000000"/>
                </a:solidFill>
                <a:latin typeface="Calibri"/>
              </a:rPr>
              <a:t>(2) not be a candidate for nomination or election to, or be the holder of, an elective office of the federal, state, or county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Sec. 174.094. ORGANIZING THE CONVENTION. (a) The state chair is the temporary chair of the biennial state convention.</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with State Organization</a:t>
            </a:r>
            <a:br>
              <a:rPr sz="4400"/>
            </a:br>
            <a:br>
              <a:rPr sz="4400"/>
            </a:br>
            <a:r>
              <a:rPr b="0" lang="en-US" sz="4400" spc="-1" strike="noStrike" u="sng">
                <a:solidFill>
                  <a:srgbClr val="0000ff"/>
                </a:solidFill>
                <a:uFillTx/>
                <a:latin typeface="Calibri"/>
                <a:hlinkClick r:id="rId1"/>
              </a:rPr>
              <a:t>Chapter 181</a:t>
            </a:r>
            <a:br>
              <a:rPr sz="4400"/>
            </a:br>
            <a:br>
              <a:rPr sz="4400"/>
            </a:br>
            <a:r>
              <a:rPr b="0" lang="en-US" sz="4400" spc="-1" strike="noStrike">
                <a:solidFill>
                  <a:srgbClr val="000000"/>
                </a:solidFill>
                <a:latin typeface="Calibri"/>
              </a:rPr>
              <a:t>Some S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81.003. NOMINATING BY CONVENTION REQUIRED. A political party must make nominations for the general election for state and county officers by convention, as provided by this chapter, if the party is not required or authorized to nominate by primary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without a State Organization</a:t>
            </a:r>
            <a:br>
              <a:rPr sz="4400"/>
            </a:br>
            <a:br>
              <a:rPr sz="4400"/>
            </a:br>
            <a:r>
              <a:rPr b="0" lang="en-US" sz="4400" spc="-1" strike="noStrike" u="sng">
                <a:solidFill>
                  <a:srgbClr val="0000ff"/>
                </a:solidFill>
                <a:uFillTx/>
                <a:latin typeface="Calibri"/>
                <a:hlinkClick r:id="rId1"/>
              </a:rPr>
              <a:t>Chapter 182</a:t>
            </a:r>
            <a:br>
              <a:rPr sz="4400"/>
            </a:br>
            <a:br>
              <a:rPr sz="4400"/>
            </a:br>
            <a:r>
              <a:rPr b="0" lang="en-US" sz="4400" spc="-1" strike="noStrike">
                <a:solidFill>
                  <a:srgbClr val="000000"/>
                </a:solidFill>
                <a:latin typeface="Calibri"/>
              </a:rPr>
              <a:t>Some S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82.001. NOMINATING BY CONVENTION AUTHORIZED. A political party that does not have a state executive committee may make nominations for county or precinct offices by convention as provided by this chap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161.006. HOLDING PRECINCT CONVENTION OF MORE THAN ONE PARTY IN SAME BUILDING. A political party may not hold a precinct convention in the same building in which another party is holding a precinct convention on the same day unless:</a:t>
            </a:r>
            <a:br>
              <a:rPr sz="2800"/>
            </a:br>
            <a:r>
              <a:rPr b="0" lang="en-US" sz="2800" spc="-1" strike="noStrike">
                <a:solidFill>
                  <a:srgbClr val="000000"/>
                </a:solidFill>
                <a:latin typeface="Calibri"/>
              </a:rPr>
              <a:t>(1) the rooms in which the conventions are held are separated so that communication from one room to the other is precluded; and</a:t>
            </a:r>
            <a:br>
              <a:rPr sz="2800"/>
            </a:br>
            <a:r>
              <a:rPr b="0" lang="en-US" sz="2800" spc="-1" strike="noStrike">
                <a:solidFill>
                  <a:srgbClr val="000000"/>
                </a:solidFill>
                <a:latin typeface="Calibri"/>
              </a:rPr>
              <a:t>(2) a sign in bold print identifying the party holding the convention is posted at the entrance to each roo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 161.007. UNLAWFULLY PROHIBITING EMPLOYEE FROM ATTENDING POLITICAL CONVENTION. </a:t>
            </a:r>
            <a:br>
              <a:rPr sz="2000"/>
            </a:br>
            <a:br>
              <a:rPr sz="2000"/>
            </a:br>
            <a:r>
              <a:rPr b="0" lang="en-US" sz="2000" spc="-1" strike="noStrike">
                <a:solidFill>
                  <a:srgbClr val="000000"/>
                </a:solidFill>
                <a:latin typeface="Calibri"/>
              </a:rPr>
              <a:t>(a) A person commits an offense if, with respect to another over whom the person has authority in the scope of employment, the person knowingly:</a:t>
            </a:r>
            <a:br>
              <a:rPr sz="2000"/>
            </a:br>
            <a:r>
              <a:rPr b="0" lang="en-US" sz="2000" spc="-1" strike="noStrike">
                <a:solidFill>
                  <a:srgbClr val="000000"/>
                </a:solidFill>
                <a:latin typeface="Calibri"/>
              </a:rPr>
              <a:t>(1) refuses to permit the other person to be absent from work for the purpose of attending a precinct convention in which the other person is eligible to participate or attending a county, district, or state convention to which the other person is a delegate; or</a:t>
            </a:r>
            <a:br>
              <a:rPr sz="2000"/>
            </a:br>
            <a:r>
              <a:rPr b="0" lang="en-US" sz="2000" spc="-1" strike="noStrike">
                <a:solidFill>
                  <a:srgbClr val="000000"/>
                </a:solidFill>
                <a:latin typeface="Calibri"/>
              </a:rPr>
              <a:t>(2) subjects or threatens to subject the other person to a penalty for the purpose of preventing or retaliating for the other person's attendance at a precinct convention in which the other person is eligible to participate or for the other person's attendance at a county, district, or state convention to which the other person is a delegate.</a:t>
            </a:r>
            <a:br>
              <a:rPr sz="2000"/>
            </a:br>
            <a:r>
              <a:rPr b="0" lang="en-US" sz="2000" spc="-1" strike="noStrike">
                <a:solidFill>
                  <a:srgbClr val="000000"/>
                </a:solidFill>
                <a:latin typeface="Calibri"/>
              </a:rPr>
              <a:t>(b) In this section, "penalty" means a loss or reduction of wages or other benefit of employment other than a deduction for the actual time of absence from work.</a:t>
            </a:r>
            <a:br>
              <a:rPr sz="2000"/>
            </a:br>
            <a:r>
              <a:rPr b="0" lang="en-US" sz="2000" spc="-1" strike="noStrike">
                <a:solidFill>
                  <a:srgbClr val="000000"/>
                </a:solidFill>
                <a:latin typeface="Calibri"/>
              </a:rPr>
              <a:t>(c) An offense under this section is a Class C misdemeanor.</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7T21:48:59Z</dcterms:created>
  <dc:creator>Kevin Jefferies</dc:creator>
  <dc:description/>
  <dc:language>en-US</dc:language>
  <cp:lastModifiedBy>Kevin Jefferies</cp:lastModifiedBy>
  <dcterms:modified xsi:type="dcterms:W3CDTF">2014-06-30T00:12:40Z</dcterms:modified>
  <cp:revision>35</cp:revision>
  <dc:subject/>
  <dc:title>Statutory Code about Political Parties</dc:title>
</cp:coreProperties>
</file>